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0C74-4A1B-4328-886E-25E7714B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7F63-78DE-483F-8A85-958ED532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1F8D-9E6E-424D-AC56-E2635654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7B42-92CC-4B7E-BCA4-65640A7F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7AAF-AFDF-48B4-812B-83357B77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8896-7957-4A92-8F7D-25CE6209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8FEA-CADB-479B-BD59-DAD00C3D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F3A4-DD8B-4567-9150-9DB7E794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AC5E-887D-4269-A813-3F4C159C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B852-F0DC-458D-A04C-2BC62A53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1121-41BF-46F5-9C49-6D543296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48F6-6051-4C69-A662-7DEA5DEF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8462-C064-458F-9AA7-0B09647A1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523880" y="1066680"/>
            <a:ext cx="1600200" cy="1143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or sum all figu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ular Callout 6"/>
          <p:cNvSpPr/>
          <p:nvPr/>
        </p:nvSpPr>
        <p:spPr>
          <a:xfrm>
            <a:off x="304920" y="228600"/>
            <a:ext cx="4267080" cy="612720"/>
          </a:xfrm>
          <a:prstGeom prst="wedgeRectCallout">
            <a:avLst>
              <a:gd name="adj1" fmla="val -20833"/>
              <a:gd name="adj2" fmla="val 5119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 to finding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ight Arrow 9"/>
          <p:cNvSpPr/>
          <p:nvPr/>
        </p:nvSpPr>
        <p:spPr>
          <a:xfrm>
            <a:off x="152280" y="1219320"/>
            <a:ext cx="1219320" cy="6858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ight Arrow 10"/>
          <p:cNvSpPr/>
          <p:nvPr/>
        </p:nvSpPr>
        <p:spPr>
          <a:xfrm>
            <a:off x="152280" y="2590920"/>
            <a:ext cx="1219320" cy="6858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1523880" y="2514600"/>
            <a:ext cx="1600200" cy="1143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the number of 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Equal 12"/>
          <p:cNvSpPr/>
          <p:nvPr/>
        </p:nvSpPr>
        <p:spPr>
          <a:xfrm>
            <a:off x="3200400" y="1219320"/>
            <a:ext cx="91440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Equal 13"/>
          <p:cNvSpPr/>
          <p:nvPr/>
        </p:nvSpPr>
        <p:spPr>
          <a:xfrm>
            <a:off x="3276720" y="2590920"/>
            <a:ext cx="91440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ular Callout 14"/>
          <p:cNvSpPr/>
          <p:nvPr/>
        </p:nvSpPr>
        <p:spPr>
          <a:xfrm>
            <a:off x="5029200" y="304920"/>
            <a:ext cx="3581280" cy="533160"/>
          </a:xfrm>
          <a:prstGeom prst="wedgeRectCallout">
            <a:avLst>
              <a:gd name="adj1" fmla="val -20833"/>
              <a:gd name="adj2" fmla="val 5119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10, 20, 30,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1523880" y="4038480"/>
            <a:ext cx="1600200" cy="1067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 Step 1 by Ste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ight Arrow 16"/>
          <p:cNvSpPr/>
          <p:nvPr/>
        </p:nvSpPr>
        <p:spPr>
          <a:xfrm>
            <a:off x="152280" y="4191120"/>
            <a:ext cx="1219320" cy="6858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Equal 17"/>
          <p:cNvSpPr/>
          <p:nvPr/>
        </p:nvSpPr>
        <p:spPr>
          <a:xfrm>
            <a:off x="3276720" y="3962520"/>
            <a:ext cx="91440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lowchart: Alternate Process 20"/>
          <p:cNvSpPr/>
          <p:nvPr/>
        </p:nvSpPr>
        <p:spPr>
          <a:xfrm>
            <a:off x="4191120" y="1371600"/>
            <a:ext cx="1752480" cy="61272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d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ular Callout 22"/>
          <p:cNvSpPr/>
          <p:nvPr/>
        </p:nvSpPr>
        <p:spPr>
          <a:xfrm>
            <a:off x="6095880" y="1447920"/>
            <a:ext cx="2895840" cy="533160"/>
          </a:xfrm>
          <a:prstGeom prst="wedgeRectCallout">
            <a:avLst>
              <a:gd name="adj1" fmla="val -20833"/>
              <a:gd name="adj2" fmla="val 5119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+ 20 + 30 + 40 =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lowchart: Alternate Process 23"/>
          <p:cNvSpPr/>
          <p:nvPr/>
        </p:nvSpPr>
        <p:spPr>
          <a:xfrm>
            <a:off x="4267080" y="2743200"/>
            <a:ext cx="1752840" cy="61272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ular Callout 24"/>
          <p:cNvSpPr/>
          <p:nvPr/>
        </p:nvSpPr>
        <p:spPr>
          <a:xfrm>
            <a:off x="7086600" y="2819520"/>
            <a:ext cx="838080" cy="533160"/>
          </a:xfrm>
          <a:prstGeom prst="wedgeRectCallout">
            <a:avLst>
              <a:gd name="adj1" fmla="val -20833"/>
              <a:gd name="adj2" fmla="val 5119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lowchart: Alternate Process 25"/>
          <p:cNvSpPr/>
          <p:nvPr/>
        </p:nvSpPr>
        <p:spPr>
          <a:xfrm>
            <a:off x="6629400" y="4114800"/>
            <a:ext cx="1752480" cy="61272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÷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lowchart: Alternate Process 21"/>
          <p:cNvSpPr/>
          <p:nvPr/>
        </p:nvSpPr>
        <p:spPr>
          <a:xfrm>
            <a:off x="4267080" y="4114800"/>
            <a:ext cx="1752840" cy="61272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1371600" y="5257800"/>
            <a:ext cx="7086600" cy="1447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marized instructions for finding th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EA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verag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Find the grand total by adding all numbers given toge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Count the numbers gi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Divide the grand total by the cou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8160" y="22860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 to finding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8380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edian is the middle number of an ordered set of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Where is the the MEDIAN of a highwa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middl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1981080"/>
            <a:ext cx="434340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set of numbe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457520" y="2933640"/>
            <a:ext cx="685800" cy="1218960"/>
          </a:xfrm>
          <a:prstGeom prst="flowChartExtra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3200040" y="2971800"/>
            <a:ext cx="685800" cy="1143000"/>
          </a:xfrm>
          <a:prstGeom prst="flowChartMerg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2895480"/>
            <a:ext cx="2133720" cy="1067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ep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 th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smallest to lar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419720"/>
            <a:ext cx="2286000" cy="76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find the middle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your ME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43828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5410080"/>
            <a:ext cx="3124080" cy="121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 Set: { 3, 1, 2, 5, 4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1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{ 1, 2, 3, 4, 5 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2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{ 1, 2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4, 5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edian is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3200400"/>
            <a:ext cx="213372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ep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 th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smallest to lar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4648320"/>
            <a:ext cx="25146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find the middle 2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579132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ep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n average of these 2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your ME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848720" y="4038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84872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01:09:10Z</dcterms:created>
  <dc:creator>Information Systems</dc:creator>
  <dc:description/>
  <dc:language>en-US</dc:language>
  <cp:lastModifiedBy>Monkey D</cp:lastModifiedBy>
  <dcterms:modified xsi:type="dcterms:W3CDTF">2008-09-18T11:25:10Z</dcterms:modified>
  <cp:revision>17</cp:revision>
  <dc:subject/>
  <dc:title>Slide 1</dc:title>
</cp:coreProperties>
</file>